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E43-27CF-41C1-84E6-81639B80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5AF-25A3-41C1-8227-93B6AA09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C55-BFC1-4DA5-9D08-BA1B9256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9FC-ED72-44E5-A8CC-6B7597BB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F5BC-C975-4F03-B99F-47296BD4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B6DA-27FF-4A29-A97C-46BFB216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F09B-8A03-4F65-AC41-B33A113E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FDE3-BA67-474B-B9AB-FE59B15D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AD8A-560A-447A-B4BA-972A256E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15A5-81A5-487B-9F0B-ACD5AA57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BC88-9169-4321-924B-B36C2B26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374-5B2F-48C2-B89E-30B4C5B0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9768-42DB-4D6A-A9F3-5A66BC95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8076-4938-438E-A792-3657E7E7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CAA8-4BFE-4E3C-BF91-145D2F71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7F1F-2B30-4506-9551-C7419F7D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1529-EFB0-4089-A2FD-4B96B015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45483-8014-4B57-A245-B35BC235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748FD-A098-485E-8260-DBF107A7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47AAA-8E02-4111-8671-D7AF9338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D437F-C0CD-427C-9F15-9581A4BD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D430E-0DB2-47F7-B603-740E14FE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C89-3F42-44C2-8071-22F7F0B3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491D-32F1-4DBA-92CC-96B00F52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38BC5-F919-4901-8F0F-BEFEF780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F1C5-1026-4AEE-8875-AC41C054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3514-5DDC-400D-A059-053473B0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1F524-4B97-49E5-A37E-71159D7F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25D73-1DCA-44B0-904E-809A7D6F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FB6B-233D-4F14-A325-8D3B53B3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87F00-6DFE-4BC6-B5F0-34F01352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BCC35-E811-4B82-8E1A-C08894CA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AB2D0-ED26-444A-96E5-8725B28B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74D-A22D-4567-B270-EF79620A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385C8-5E81-4B34-BD94-50AD9113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4A9E-1EAA-4F8E-A7B3-DE2CBE60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149A9-D361-4E96-AC65-D20E259F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B34B9-2412-4CC6-BA54-2B53A699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DBCF6-5003-43F5-AD11-AE09E07C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5FE92-862C-41FE-815B-9919960C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A2FE0-B025-4B71-A266-AF74B1A8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0E482-A44A-4248-BC00-9DB706A6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97A1F-5A4A-4C04-8683-82181C8B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51DBF-F3F5-43F1-8F29-B47FE1E3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26C-9D2F-427A-B70E-289493A9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B0FFB-18C4-4D97-BAFD-283054FD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FFB6B-016F-4054-88B5-D54E3B60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879DF-586C-4247-B450-9DC8FA83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E024F-5C1D-4BED-8D1A-0B5987C7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0404B-3A91-4193-87E3-B8CA35AB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4C791-4489-4DF7-8353-E5FD9D69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C63C3-1588-4D5A-BB6D-C267FF3E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39D5D-49FF-4F10-AFB1-70045751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2078F-F05A-4C67-8FA8-C8189359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E4EC6-681E-4986-8E4A-EB099AFB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425-010E-4E22-AAA1-2799968D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B4348-514D-43B8-95FD-71C071A9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C56AB-622E-4BAF-ACAD-02EAC99D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E2D67-4DD2-4891-9DA4-B174895D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C5A6E-D93A-45C8-9E00-4A350A83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EB0ED-22AD-4E73-8753-97FE1DB3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338D0-9FDA-4C19-B101-E66C27BD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F78CE-1BBE-491E-8336-9D4A2777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37D4C-9005-4143-911E-7DAFBEB3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D16A0-BB4A-4DB0-9194-83579BA7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F4F80-846A-483F-8D9B-D02C7E13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C8F-A416-4E21-A607-CF1A93D1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0AACD-D61B-401B-8261-03C15A9F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D05A5-6B99-4D40-9659-20FD0487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DB98B-DB5A-42E3-B64F-F3024F9F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45D-9E70-4A78-A6C1-41BCB358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24B-8DE6-458E-8F0F-7766CA9F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DC77-DAAC-4974-A7CD-2DDE154BD7C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D584-9BB6-417B-A0C6-531E022BE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544D-E74A-4E11-9CB7-DD1E1A75CE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A270-7302-427F-9E3B-839D65BEF04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307E-9E28-4C10-9C60-196CD3A80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A4AB-8F0F-4A73-AC77-6C96235D7F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djectives &amp; Adverb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lish Composition 1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essor Mue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uperlative Form cont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 the guideline and us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m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ever use bo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st lucki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son I kn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st funni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I have ever se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st happi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son I have ever 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ewer vs. L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omparativ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mpare non-count nouns (nouns that cannot be divid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play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ess mus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more commercials on the radio than ever befo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ess mone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my bank account than my sister has in 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ew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compare count nou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wer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our class than when the semester be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wer penn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my jar than my brother has in 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rregular Adjectives &amp; Adverb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common adjectives &amp; adverbs have irregular forms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d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vs.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adjective, so use it to describe a noun or pro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ha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n adverb, so use it to describe a verb or an adjec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writ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lso be used as an adjective when it is describing someone’s health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m not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day. (adjectiv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e does not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fee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(adverb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rregular Adjectives &amp; Adverb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vs. Ba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djective, so use it to describe a noun or prono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has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put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d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dverb, so use it to describe a verb or an adj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behav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ad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school tod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rregular Adjectives &amp; Adverb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and Superlative forms of the irregular adjectives and adverbs are also irregula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the same comparative &amp; superlative form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comparati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have a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ca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han she does.  (adjectiv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fee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day than I did yesterday. (adver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superlati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 is the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bes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teach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t Blinn.  (adjectiv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writ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bes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when I’m not under pressure.  (adver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rregular Adjectives &amp; Adverb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a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ad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 the same comparative &amp; superlative for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mpar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has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I do. (adjecti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ee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I do. (adver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uperl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had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r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the class.  (adjecti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ee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s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has ever felt.  (adver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djective vs. Adverb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s or modifies a noun or a pro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info abo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ki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ich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how things look, smell, feel, taste,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s or modifies a verb, an adjective, or another adv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info abo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mu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what ex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end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–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ich one do I us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ritical to identify which word is being modified in order to determine whether to use an adjecti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dverb as the modif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She runs s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 She runs slow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He is real ta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 He is really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dj. &amp; Adv. With Same For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djectives and adverbs have the same for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, far, fast, hard, high, late, often, past, right,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way to distinguish them is to identify what they mod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: 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rove around the cu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:  The c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ound the cu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parative For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ar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uns, us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ar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 of an adjective or ad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djective or adverb is one syllable, ad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–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o form the compar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all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my m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mar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is same pattern for adjectives that end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ut change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fore add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happi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han he i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at show is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unnie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han the other o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parative Form cont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djective or adverb is more than one syllable, add the wor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form the compara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ore impress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your skills than he 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is eve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ore beautif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she used to 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parative Form cont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 the guideline and us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mo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ever use bo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re tal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my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show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re funn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the other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so mu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re happ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she used to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uperlative For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ar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or 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uns, us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perl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 of an adjective or ad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djective or adverb is one syllable, ad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–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o form the superl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am th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talles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 in my family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is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mart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erson in the cla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is same pattern for adjectives that end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ut change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fore add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–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happi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I’ve ever 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show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nni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tcom on T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uperlative Form cont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djective or adverb is more than one syllable, add the wor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form the superlat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st selfi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son in our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st beautif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ress on tele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6:34:32Z</dcterms:created>
  <dc:creator>dawn.pickett</dc:creator>
  <dc:description/>
  <dc:language>en-US</dc:language>
  <cp:lastModifiedBy>KISD</cp:lastModifiedBy>
  <dcterms:modified xsi:type="dcterms:W3CDTF">2011-03-29T21:21:59Z</dcterms:modified>
  <cp:revision>10</cp:revision>
  <dc:subject/>
  <dc:title>Adjectives &amp; Adverbs</dc:title>
</cp:coreProperties>
</file>